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255662"/>
        <c:axId val="73696402"/>
      </c:barChart>
      <c:catAx>
        <c:axId val="362556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696402"/>
        <c:crosses val="autoZero"/>
        <c:auto val="1"/>
        <c:lblAlgn val="ctr"/>
        <c:lblOffset val="100"/>
        <c:noMultiLvlLbl val="0"/>
      </c:catAx>
      <c:valAx>
        <c:axId val="736964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2556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86FB-6378-4D8A-89CD-45A23CE01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0653-DD43-4001-994F-F9E040C45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BA1C-F45F-4FEE-A767-4ADB16C41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C1D9-2F12-4B89-B3BF-3D3A4D303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422A-FC8C-480D-AD76-B70F93E76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AC4D-EAE2-4DC0-9E5D-63232E4F0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6CC5-8701-49CF-B33F-29CAC02D2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8336-DD4D-4035-982E-69013F87E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EA56-F2BA-401F-81AC-A0EB25C9F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3B50-32A9-4ABA-91F1-39CD1F1E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3B4A-CDCE-4778-B5E2-D1020AB1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0929-D569-4B93-9660-C33A21AF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E8E136-82E1-4D36-A3D6-A3778076E7D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