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91817"/>
        <c:axId val="74756514"/>
      </c:barChart>
      <c:catAx>
        <c:axId val="55391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56514"/>
        <c:crosses val="autoZero"/>
        <c:auto val="1"/>
        <c:lblAlgn val="ctr"/>
        <c:lblOffset val="100"/>
        <c:noMultiLvlLbl val="0"/>
      </c:catAx>
      <c:valAx>
        <c:axId val="74756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91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9FD-E4CF-4234-BECE-63BF1A9F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B13-1436-4B61-9B92-8278DF9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001-859A-4903-B6AA-103F3243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CE1-4042-4D6D-B68E-D9D2428A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6F9-2814-4892-803F-2B8EBC11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6D8-BF13-4AA6-8DBD-20A6EB8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ED6-6810-405D-A91D-2D9538ED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7AA-1D7E-433C-89AA-7642BF17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5E4-5332-4BB8-8146-DCDBB4F3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886-08A3-4452-9643-040F132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D1E-502E-425B-B424-B743F0B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BD0-C771-4F77-AFEE-49F2D04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C69BD-8F09-4A6B-A6D1-5112A9BB49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