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022935"/>
        <c:axId val="87217331"/>
      </c:barChart>
      <c:catAx>
        <c:axId val="920229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217331"/>
        <c:crosses val="autoZero"/>
        <c:auto val="1"/>
        <c:lblAlgn val="ctr"/>
        <c:lblOffset val="100"/>
        <c:noMultiLvlLbl val="0"/>
      </c:catAx>
      <c:valAx>
        <c:axId val="872173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0229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38E7-C5CD-4F22-8CCF-B11AFD6A5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D249-6CD8-417F-A9B9-EE7F68A2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728D-D430-4D45-8160-729999B16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82A3-0A9F-4C38-909E-C41C7D106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E660-35AC-428E-9CAB-24C0A59F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62CE-00A8-47F8-8458-4D3F0220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C5DB-6650-4C1D-9531-75C3A4C2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4792-252E-4E1D-A25C-151A2B19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5E29-BC59-4DEA-AB08-616185ED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6D45-0AED-4D00-8C6C-9CF3E407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6B09-F13D-4E06-A8C8-E0A9B1A3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2D04-67D1-475B-AA6B-522AF925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C0B7C4-1CDF-40E0-9538-A6D561DB79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