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647818"/>
        <c:axId val="31743902"/>
      </c:barChart>
      <c:catAx>
        <c:axId val="146478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743902"/>
        <c:crosses val="autoZero"/>
        <c:auto val="1"/>
        <c:lblAlgn val="ctr"/>
        <c:lblOffset val="100"/>
        <c:noMultiLvlLbl val="0"/>
      </c:catAx>
      <c:valAx>
        <c:axId val="317439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6478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F5F9-8B74-4F5F-A918-18C8742C8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3F17-DF3F-4819-83A0-22B62465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20FF-D516-4735-AE06-E19ADFA9D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99F0-E898-4226-BCA0-110A58A21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A1A2-3080-4F7A-B7B7-B8DA3297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DF4C-7D8F-4CBF-8036-73877D92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3B44-864C-43E0-BD75-2CF93B75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CF30-F9CF-4E1E-AB6B-A0978B31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DBAD-9CA4-4577-8112-4A3A5400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15E0-6C00-419C-9B40-47BDD809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8674-B395-4500-9626-2D8D94BF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DBC7-5FBD-44C5-ACB2-863C9CB4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2A988-78AB-45B3-98B1-3F14E26937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