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94656"/>
        <c:axId val="12156402"/>
      </c:barChart>
      <c:catAx>
        <c:axId val="49094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56402"/>
        <c:crosses val="autoZero"/>
        <c:auto val="1"/>
        <c:lblAlgn val="ctr"/>
        <c:lblOffset val="100"/>
        <c:noMultiLvlLbl val="0"/>
      </c:catAx>
      <c:valAx>
        <c:axId val="12156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94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EEC9-A778-467B-926E-D06C2904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F86-F651-4021-AAE8-5B4865F1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342-D14A-4C5F-B54F-384A2B13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512-B4D8-44A2-8F4E-2031D638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A48-2C09-4619-9AD5-FC6B97F4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DB3-1252-423A-84AA-D54AEAF4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66E-13AA-4F19-9965-863F61A3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039-9B4A-4F36-A518-5EC08C8F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BAA-8D38-49CF-A751-F3A67441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C9E-ACA8-4946-9722-83644AB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9BC-3EA7-4392-AEA6-4061F6D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35F-3C8B-49DB-87D0-9289915A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6928C-ACCE-42EE-8D60-C7392956E5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