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273466"/>
        <c:axId val="50862012"/>
      </c:barChart>
      <c:catAx>
        <c:axId val="382734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862012"/>
        <c:crosses val="autoZero"/>
        <c:auto val="1"/>
        <c:lblAlgn val="ctr"/>
        <c:lblOffset val="100"/>
        <c:noMultiLvlLbl val="0"/>
      </c:catAx>
      <c:valAx>
        <c:axId val="508620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2734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334F-7769-44B6-AE40-66B260C11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C3B5-0C6E-436A-B035-D59842AC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6B7C-A02B-4B29-A4D3-7EF25C02A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54BD-2AC3-4CB4-A96E-5ABD222E2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FEBC-5A6E-4F2B-9C4F-39595219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B51E-7D72-4EB9-8A59-C32608E7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38BF-5C2B-4E02-A37F-4E441C47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5A31-C0B1-49B3-B193-14937C7E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4CB9-27D4-41B6-B1DC-0FC6427B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B578-774E-428A-AD9F-34B36C97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FC3B-5D88-4BE1-9444-8EFF7E40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EA9A-09E0-4AAC-845D-FCE5300D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82FC1-B6E6-40EC-BCB4-16BE5A86C1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