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502"/>
        <c:axId val="55600153"/>
      </c:barChart>
      <c:catAx>
        <c:axId val="588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00153"/>
        <c:crosses val="autoZero"/>
        <c:auto val="1"/>
        <c:lblAlgn val="ctr"/>
        <c:lblOffset val="100"/>
        <c:noMultiLvlLbl val="0"/>
      </c:catAx>
      <c:valAx>
        <c:axId val="556001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AF9-96CB-4530-8896-39535F9B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564-1799-411C-B02E-222A6D60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6BC-C182-4FB4-8727-31934B95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5AD-7F98-48FA-9A70-D6D0E1C8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C4E-B89D-4524-A461-DCCEAB5D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130-36D3-43FA-AAE8-4DF20320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098-64DD-4ED1-B950-FE09F272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392-3788-4D34-B60F-3272C7D3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644-26B5-4397-A2C4-6101D288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23A-3FEF-4C3B-83D9-58A2A209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939-1AC4-48CC-9A18-3E767344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C3D-6081-4286-B120-72BE64A4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60720-8004-4CDD-9243-9A8D06C026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