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689742"/>
        <c:axId val="2194809"/>
      </c:barChart>
      <c:catAx>
        <c:axId val="326897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4809"/>
        <c:crosses val="autoZero"/>
        <c:auto val="1"/>
        <c:lblAlgn val="ctr"/>
        <c:lblOffset val="100"/>
        <c:noMultiLvlLbl val="0"/>
      </c:catAx>
      <c:valAx>
        <c:axId val="21948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6897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7949-49E9-4486-AD93-53E25C17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E918-2964-4B37-8B3C-E7ED3D60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6177-194A-4C06-B852-62FC92B7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E915-0D42-499F-890D-C11B06D1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E7D8-68D2-47FB-B181-913DB8B4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6ED7-EBBE-4EA7-AC3F-71EA5DFD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48A0-F582-4DCC-B937-BF1C62B4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5593-2A11-4AA5-A559-473052B7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7BDF-2E55-4E47-BF70-2EBB5902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4B3B-C3E2-4267-9813-EFCC4C43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3F51-287A-470A-95DE-23DC429D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DB48-086A-4D50-8AFC-01AF5EE4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C9F01-099B-4A90-8B90-F140D7592E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