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851241"/>
        <c:axId val="64754545"/>
      </c:barChart>
      <c:catAx>
        <c:axId val="278512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754545"/>
        <c:crosses val="autoZero"/>
        <c:auto val="1"/>
        <c:lblAlgn val="ctr"/>
        <c:lblOffset val="100"/>
        <c:noMultiLvlLbl val="0"/>
      </c:catAx>
      <c:valAx>
        <c:axId val="647545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8512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9D74-07E4-4F62-8142-7336659C6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4EDC-88A5-4F47-B869-417E1B8E4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7B90-AABB-46F4-B61E-066616291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873B-A44E-41BE-B4C5-653B8E6D2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CA83-779C-488B-8DB1-0775B9113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3DE6-DECC-4D46-90A7-8DC4E488D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502A-ACF1-4499-ADA0-7DD9A65D2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D902-7079-44C4-BD2A-7BF258430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7E2F-41C5-4141-A529-EC24C4BC1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4A48-7B26-4890-8DB2-1F485E7D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69B5-0510-4E4A-BC0F-56514A52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3AAC-EFC0-4F27-B227-227E17DD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6FF4E5-B4D9-4317-998E-C320BA1075E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